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5509-53FA-489F-AD38-E69C97BD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BC0C-0FDE-4555-AFCA-D3E68826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27FB-4AB5-4AD7-AF29-B8429DA5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E240-A2E1-40F9-8505-54A23393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AB07-DECC-4899-BB25-A811931F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2EFB-3DDE-4F46-BDE7-A943987B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96E3-DC31-4D78-B30C-56C0269C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BDED-572B-46E7-A2D4-E9DDC652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2366-9B13-463B-ADA4-3B46A686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1767-6D7E-4450-A871-8A74A69D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F1AF-79F0-41A5-88E7-79F39574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4ADC-1A02-4107-B8D3-35FE9DCD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8A150-7815-4902-97F7-3A45D66BF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4240"/>
            <a:ext cx="10080720" cy="70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of S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ng: “Sunday Bloody Sunday” by U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bum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a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198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r/Performer: U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l Reaction: See ly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AP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Bloody Sunday, Ireland 197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nuary 30th, 197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tish troops kill 13 Irish Catholics in peaceful demon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oops eventually found justified in a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cca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Album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Track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die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Pop music fans – worldw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rpos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pinion of Bloody Sunday (U2 is Irish ban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peaker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ono – voice of so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 fill="hold"/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 fill="hold"/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 fill="hold"/>
                                        <p:tgtEl>
                                          <p:spTgt spid="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 fill="hold"/>
                                        <p:tgtEl>
                                          <p:spTgt spid="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7520" y="9360"/>
            <a:ext cx="10080720" cy="74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o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asting im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Broken bottles under children's fee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And mothers, children, brothers, sisters / Torn apar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We eat and drink while tomorrow they die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erences to Pe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I won't heed the battle call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'Cause we can be as one tonigh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To claim the victory that Jesus wo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eated questio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How long must we sing this song?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Many lost but who has won?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APS/Mus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Marching beat - Call to arm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Album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W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 – a commentar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Irish Catholic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 fill="hold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 fill="hold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 fill="hold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 fill="hold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 fill="hold"/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 fill="hold"/>
                                        <p:tgtEl>
                                          <p:spTgt spid="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 fill="hold"/>
                                        <p:tgtEl>
                                          <p:spTgt spid="4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9:41:36Z</dcterms:created>
  <dc:creator>Nick Chanese</dc:creator>
  <dc:description/>
  <dc:language>en-US</dc:language>
  <cp:lastModifiedBy>Nick Chanese</cp:lastModifiedBy>
  <dcterms:modified xsi:type="dcterms:W3CDTF">2010-10-04T00:51:25Z</dcterms:modified>
  <cp:revision>6</cp:revision>
  <dc:subject/>
  <dc:title/>
</cp:coreProperties>
</file>